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636F-7BF8-48AD-9577-E6CBB882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A44B-FA27-4AB3-A3DE-ED01930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1395-0A2E-48B5-9381-36DB66E2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6A18-386A-4646-99E2-A97C5D73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48FF-6EDD-4CE6-88EF-9D1238BD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6D11-F35A-465E-98E3-6D776105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6456-62D5-4ADB-9963-B347556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8FD1-1D44-4217-A333-A5F3D97D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1F3-DECD-488F-A033-AB0B3E7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5D38-1386-4405-A84A-225CACB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2AB-8DB1-4BAF-8567-33F8A8F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4B16-4EDC-4E97-B281-C7151B52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163F-D437-4C1B-8F7B-F338DA0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32CA-B6C3-4E1B-88FA-212D15C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1416-F87F-4F9E-9BEA-4175707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B4B1-2644-459C-B266-FFAE0366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20E9-8777-46E1-B0D8-C75F0C60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37EA-46AE-4E0C-81DC-5F5699A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2E15-817B-4CAF-95F3-32A5F5D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AD35-65C8-4E06-B736-92A67CF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A6FC-EEA2-4104-ABC9-1AA80BFD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55CB-EE2F-43F2-AA9D-F3D0F20D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58F1-3A71-4415-8730-CF31DB91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56F7-B8CD-4CE7-AE56-B911430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7187-F7DC-46D7-A516-443D2662927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982B-9A3B-45A6-90AA-C10636E4881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(691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Ей, напред, вой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оя да върв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труже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о да поб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сам ни е Вождът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ой напред върв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маме надеж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или Негов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44468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ой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оя да върв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труже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о да поб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напред, вой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ни надвий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едваме, юна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ътя на свети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ще ни раздел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троя разруш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воите пред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оспод ни държи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144468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ой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оя да върв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труже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о да поб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Царски трон и сл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ремето руш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църквата Христо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но ще сто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то адски си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ще ни победят –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се сдружи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Господа пресеят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1444680"/>
            <a:ext cx="100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пев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Ей, напред, вой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боя да върви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ие сме тружениц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ло да побед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4. Пейте, о, народ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 нас тържествен химн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ширни небосвод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ружно да лети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с хвала безкрай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чест на Бога свя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ш'те песни славн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чно ще ехтят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541440" y="1307880"/>
            <a:ext cx="100821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3800" spc="-1" strike="noStrike">
                <a:solidFill>
                  <a:srgbClr val="ffffff"/>
                </a:solidFill>
                <a:latin typeface="Arial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й, напред, войници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боя да вървим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ие сме тружениц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ло да победим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30:10Z</dcterms:modified>
  <cp:revision>151</cp:revision>
  <dc:subject/>
  <dc:title>Slide 1</dc:title>
</cp:coreProperties>
</file>